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1A5E-D8D3-4517-B614-F89319ABC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6509-9C39-4B83-995E-3CAA3FFA7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1964-ACF8-4544-A5EA-67B4A0766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1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i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71326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3808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</a:t>
            </a:r>
            <a:r>
              <a:rPr b="0" lang="ja-JP" sz="1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12800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4T19:59:32Z</dcterms:modified>
  <cp:revision>29</cp:revision>
  <dc:subject/>
  <dc:title>lesson three</dc:title>
</cp:coreProperties>
</file>