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5169-0C81-40B0-A649-47624857A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27EA-C4CA-4B35-8C22-DECC29A21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C986-A459-4631-955D-1A2479B92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3280-0FFC-466E-9194-60752457B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069A-ABE0-46C3-8332-36A813842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1ADA-AB83-48B5-88F6-9B381AA91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hirteen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troub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garnis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is garnishme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legal procedure that withholds a portion of your earnings for the paym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 limits of garnish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esser of 25% of your disposable income or 30 times the federal hourly minimum wa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may be able to get a “Claim of Exemption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laim of exemption (only if you meet all of the following condition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family is living in the st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 the money you earn is needed to provide necessiti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bt was for a necessity (food, housing, medical care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arnishment has already been start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protection you ha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not be fired for any one garnishm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 law is enforc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forced by the Secretary of Labor through the Wage and Hour Division of the U.S. Department of Labo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6970320" y="6323400"/>
            <a:ext cx="172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assignment and wage attac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ssig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es not have legal force from a court, as wage garnishment do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is a legal agreement between a lender and a deb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mits lender to collect part of debtor’s wages from an employer if debtor fails to make regular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ployer is not legally compelled to honor a wage assignment arrange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tach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n’t have a job, a lender can get a court order to “attach” or seize some of your property to pay of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7008480" y="6323400"/>
            <a:ext cx="168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ar 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seize car as soon as you defaul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’t commit a breach of the peace, i.e., use physical force or threats of fo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keep car or resell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 such as a stereo or luggage rack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uy back car by paying the full amount owed on it plus repossession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esponsibili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st still pay the “deficiency balance”—the amount of debt remaining even after your creditor has sold your ca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7012440" y="6323400"/>
            <a:ext cx="167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-earner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it wor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etition bankruptcy court to approve a plan to pay off your deb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urt accepts plan if you can pay off, in three years, at least as much as your creditors would receive if you filed straight bankruptc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on all your loans stop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ors must contact the court, instead of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paid as agreed, at the end of three years your debts are considered paid in fu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costs range between 15% and 25% of amount ow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ometimes salvage your credi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avoid being harassed by your credi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y being required to draw up a budget and determine exactly how much you can actually afford to pay, you are forced into being realistic about your budg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lenders don’t react favorably when they see wage-earner bankruptcy on a credit report because some people use it to protect their property and pay less of their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99480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raight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uration on your credit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p to 10 yea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may still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x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ild suppor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imon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llege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egal deb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-signer oblig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no longer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tail store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nk credit card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secured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paid hospital or physician bil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700560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y consumers don’t pa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ss of income (4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employment (2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ness (16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(divorce, death) (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verextension (25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or money manag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enc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erialis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ed for instant gratifi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fective goods and services (20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raudulent use of credit (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ther (3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994800" y="6323400"/>
            <a:ext cx="1718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ning signs of troubl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don’t know how much you ow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often pay bills l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get a new loan to pay old loa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ay only the minimum balance due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spend more than 20% of your net income (after paying rent or mortgage) on debt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would have an immediate financial problem if you lost your job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’re spending more than you earn, using your savings to pay for day-to-day expens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99732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irst steps to take if you can’t pay your bill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ake another (close) look at your budge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im your expens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e realistic about what you can afford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ntact your credito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ell them why you can’t pay, that you intend to pay, and when/how much you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 will be able to pay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ay be able to work out a new payment schedu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possible, continue to make the minimum payment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985080" y="6323400"/>
            <a:ext cx="171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6914520" y="6323400"/>
            <a:ext cx="179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D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43000" y="1143000"/>
          <a:ext cx="6858000" cy="405936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xed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Insura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exible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ting ou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 </a:t>
            </a:r>
            <a:r>
              <a:rPr b="0" i="1" lang="en-US" sz="2000" spc="-1" strike="noStrike">
                <a:solidFill>
                  <a:srgbClr val="30797b"/>
                </a:solidFill>
                <a:latin typeface="Verdana"/>
              </a:rPr>
              <a:t>(continued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6897240" y="6323400"/>
            <a:ext cx="1796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D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143000" y="1143000"/>
          <a:ext cx="6858000" cy="435600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portatio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s far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s &amp; oi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king &amp; toll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air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othing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ertain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sonal item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redit counsel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ational Foundation for Credit Counseling (NFC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 that offers information on financial and consumer topics. All cities wit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populations of 50,000, and 1,500 locations nationwid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views your incom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set up a realistic personal budge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contact your creditors and make arrangements for reduced payments on your bil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plan for future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s, depending on location, may be available for no charge or reasonable fe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ed in yellow pages under “credit counseling” or call (800) 388-2227 for a loc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nearest you. Or you can visit NFCC online at nfcc.org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699228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olidating your deb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an consolid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make only one payment, usually lower than the total amount of you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monthly debt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st to use only when combined with cred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own a home, consider your spending habits carefully before you take o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 home equity loan. You could end up with a loan and large credit card bills if yo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on’t change your spending habi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tch out for “credit repair” compan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for-prof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nsolidation loa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dvertise they can erase a poor credit history (no one can do thi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700884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air debt collection pract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u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 you, in writing, of the amount of your debt, the name of the creditor, and an explanation of your right to dispute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ispute the debt, the debt collector must give you written proof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ay no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act you at unusual times or pla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sclose what you owe to anyone but your attor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rass or threaten you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 false state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ive false information about you to anyon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srepresent the legal status o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gage in any kind of unfair practice, such as trying to collect an amount greater than you ow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6974280" y="6323400"/>
            <a:ext cx="172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1-14T20:23:16Z</dcterms:modified>
  <cp:revision>33</cp:revision>
  <dc:subject/>
  <dc:title>lesson three</dc:title>
</cp:coreProperties>
</file>